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E4DA-6828-4296-964C-F26DD9C93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B7C4-D989-401C-BDB8-89EA0CB7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3FB8-E455-489D-B44E-6167CD889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0E8A-62B1-4BBC-A327-EB7F5956D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D418-0569-4EA1-96FD-E4DA0079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9ED5-CA71-459A-9AEF-C54EEF92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F7BC-C066-402F-9ABE-77693F44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6A86-EFCB-459E-920E-1DEB0B1C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4EFE-7DC5-4DD9-9280-AFF995A9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C763-7EC1-4231-A190-CAB94FA6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B722-FEA0-4B99-872D-3CFFA01F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980D-281D-428E-9E87-991A9363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5B53-5413-47B2-A46E-56FD76BAF4D5}" type="slidenum">
              <a:rPr b="0" lang="en-P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iagram 11" descr=""/>
          <p:cNvPicPr/>
          <p:nvPr/>
        </p:nvPicPr>
        <p:blipFill>
          <a:blip r:embed="rId1"/>
          <a:stretch/>
        </p:blipFill>
        <p:spPr>
          <a:xfrm>
            <a:off x="450720" y="255600"/>
            <a:ext cx="8089920" cy="62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Rectangle 3" descr=""/>
          <p:cNvPicPr/>
          <p:nvPr/>
        </p:nvPicPr>
        <p:blipFill>
          <a:blip r:embed="rId1"/>
          <a:stretch/>
        </p:blipFill>
        <p:spPr>
          <a:xfrm>
            <a:off x="1712880" y="2779560"/>
            <a:ext cx="520560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3" descr=""/>
          <p:cNvPicPr/>
          <p:nvPr/>
        </p:nvPicPr>
        <p:blipFill>
          <a:blip r:embed="rId2"/>
          <a:stretch/>
        </p:blipFill>
        <p:spPr>
          <a:xfrm>
            <a:off x="66600" y="2249640"/>
            <a:ext cx="8937720" cy="345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Rectangle 3" descr=""/>
          <p:cNvPicPr/>
          <p:nvPr/>
        </p:nvPicPr>
        <p:blipFill>
          <a:blip r:embed="rId1"/>
          <a:stretch/>
        </p:blipFill>
        <p:spPr>
          <a:xfrm>
            <a:off x="420840" y="1231920"/>
            <a:ext cx="865008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1T05:26:30Z</dcterms:created>
  <dc:creator>ESTER</dc:creator>
  <dc:description/>
  <dc:language>en-US</dc:language>
  <cp:lastModifiedBy>ESTER</cp:lastModifiedBy>
  <dcterms:modified xsi:type="dcterms:W3CDTF">2012-07-12T00:10:37Z</dcterms:modified>
  <cp:revision>7</cp:revision>
  <dc:subject/>
  <dc:title>Slide 1</dc:title>
</cp:coreProperties>
</file>